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3C0F-9E6B-40E1-9BA7-06C9035DDF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FE71-FA75-4B06-A20D-1667DFCF8B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5644-3E77-4AA8-8967-AECEE2852F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ooks: E-novels with videos embedded – a break with the linearity of the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ADF6-4220-4A28-92B5-3A371B155F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E0BD-72D4-49B9-9466-9D3144B07F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1037-4982-4E9A-92F2-6C9CB312F2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8D5-F818-4E02-9451-B4B5F5A8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56A-C395-4288-A1B2-80A5B80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F11-60B3-4F38-8EC0-F161DCC3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D45-99F2-4247-9E99-DCE664CE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0525-F694-456B-BF7D-13CFE50C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595F-41CF-4150-952F-13FB5473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1F7D-0205-435D-8F10-EEEE2034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8A28-6B04-4080-8968-BB9AD90D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9EC6-06ED-4AA4-ACAD-58619690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2199-D9C9-498B-9474-6653C688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4ACE-F999-40FA-AB56-3848C03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599-415E-4ABA-9109-CE1D2479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AD65-14E1-46AA-A4E3-B9C3E71A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6F43-57A9-4022-AF01-4E53144B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92E5-0C2E-4C8E-8F3C-05BB9422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234F-B39F-4384-89D1-633B378C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2301-B193-484F-9DB2-E3DD52B9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8665-4D6A-4B4A-BB1E-46D68EC5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857A5-D193-4C7F-9D77-F6D83066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7A56-BA70-4752-A6F7-AF9F9784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B2DE-A84F-48EF-AE03-735F4DB8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17D1-1157-484E-9569-2C094918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7A0-90B0-4FA9-814F-2A45764D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FC1C-D366-4DF4-BA37-ADC21BE8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63F8-33EE-4CCF-BC97-391141D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743F3-BF3E-42FF-8CD0-4DACAC4B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0E03-789D-4FD0-809E-9C77067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FE3B-4A8C-4890-8F94-9443D2B5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9E51-7B68-4DDA-BF6E-65FB330F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3B49-3285-4B33-917B-D8669362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1AD7-4E45-4D3E-82BF-BC227A86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E14CE-686E-4232-A7E7-EEE7F063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94A83-1B13-40BB-9870-64969F06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872-7AB3-4BF0-8683-3C0D30E5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B8E0-3FAD-408A-9239-F1488D03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E07EF-9225-46CA-8D79-08051B62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6B55F-2D81-4905-AFE5-BBF06AEA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E421-80CC-4E4F-BCCB-51547AC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FE5EB-ADB8-4553-ACB8-07F1D532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9E2D6-AFE9-4AB2-8ECA-48C0BA5A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750A-E1BD-4369-A020-DCD6A90B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17A4-5FE3-4AAC-A0B1-F36B0877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E13A7-8DEE-4BBF-AD3D-70ACF781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A307-34B4-4306-B8DB-63A95126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553-0E1D-432A-9D6A-8D0F786F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B785-F6D6-491C-8236-EDEEBAB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F80A-8C8A-4505-B2B4-4AA1ED05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68CE0-0CFB-4E01-A93E-16D45AE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42B9-1B93-42E8-8BBB-B5773B93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72EF-FA2E-48DD-A626-0BA477F8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31411-CC7F-48E8-9355-5F36873C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21241-CD4F-474F-BC22-198282C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39DF-5467-48E5-944C-52711CF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4E781-EAC6-4881-9536-B742E294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2B50D-ACF6-40E8-A0FD-859908BF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DDC-21DE-4289-9E7E-CFF24687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D5841-7741-4470-B33A-3DD8D8CC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9CAC4-22D0-4A5F-A4A4-F2724682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B9AF-0E9E-423B-994C-850BE06C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50D1A-DFB9-4A84-A8CB-F4FF782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785A9-FF58-46A0-8B97-323C430E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D5ADB-7504-4BCA-AF22-4BA62D78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B6573-80E3-4DDC-AB72-5DCB279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020FD-1928-47D0-8DAA-A09AB7FF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51DF5-E4F3-4D79-918C-6648EFD1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782F8-B810-43FC-8A2D-AA9B403F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C85-F540-47E8-AC1B-612B85A7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4950-9314-4CCC-8749-775BB0F2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0B11E-DC59-47DF-975C-48A59944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77327-C7B4-4560-98D4-234E83AC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FF77-3E4E-4120-8282-F796BCDF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52B34-8CF4-4562-9CB2-26798A91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C6A4-CC0F-447C-BB44-7D210476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1B039-3E73-431C-A4DB-D3BEBE2B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A7E94-6801-4E4B-A723-24E5F055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31F95-BF0D-4E96-A11E-8B7A8624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9B324-73B1-404A-A1CC-EB1156D7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DD9-BEBF-4BD8-9000-7D5A361C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8A4CF-3E40-4C1C-8862-011381B7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0FBD5-EC5E-4890-A33C-5EB8A5C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4230B-6D8E-429D-91E3-944948D2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654EC-208C-474B-A0ED-44736AD8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0C63A-C2F7-48EE-AECA-3B046FED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11C-0173-4879-830B-6D8C1528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79A6-C9F0-4379-A573-57CEFF1546C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C74-B666-4389-B837-8EBF558C4503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AFB9-573D-4F15-ADF3-3406308E67E0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9C60-4402-40CC-B58B-844E6FAB339C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7DC2-40B1-44FE-93C6-C65F012C9218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B3B1-6C7D-4FE4-A3AC-7736C18140D4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E326-398E-4E0B-849C-1FCF1B3D82E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8A4C-1E54-43FA-924B-F832A4218D28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1CF2-0B74-4419-83C8-8BF014D0DDD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7ECF-48E6-4EE5-9761-D3738805A547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6735-FA51-4341-AD65-C9848FF5632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CC84-5365-4E4C-9699-22825026C441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203B-8B94-46CA-8995-EB5E70F4718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E7A7-3E20-4CE1-8F4B-B0DBEBF43699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hyperlink" Target="mailto:e.mcwilliam@qut.edu.au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9920" cy="1683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85880" y="2928960"/>
            <a:ext cx="8076960" cy="21859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8f2"/>
                </a:solidFill>
                <a:latin typeface="Corbel"/>
              </a:rPr>
              <a:t>Leading Learning in the 21st century: What’s new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rbel"/>
              </a:rPr>
              <a:t>Erica McWilli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Independent and Catholic Education Professional Development Program, Adelaide Pavilion, Veale Gardens, South Terrace, Adelaide, 27 May,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CCILogo-CW small.jpg"/>
          <p:cNvPicPr/>
          <p:nvPr/>
        </p:nvPicPr>
        <p:blipFill>
          <a:blip r:embed="rId2"/>
          <a:stretch/>
        </p:blipFill>
        <p:spPr>
          <a:xfrm>
            <a:off x="3276720" y="5410080"/>
            <a:ext cx="2514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-360" y="1642680"/>
            <a:ext cx="6286680" cy="4483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udgment on achievement of  </a:t>
            </a:r>
            <a:r>
              <a:rPr b="1" i="1" lang="en-US" sz="3200" spc="-1" strike="noStrike">
                <a:solidFill>
                  <a:srgbClr val="ff71e5"/>
                </a:solidFill>
                <a:latin typeface="Corbel"/>
              </a:rPr>
              <a:t>performance goal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made by oth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il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1e5"/>
                </a:solidFill>
                <a:latin typeface="Corbel"/>
              </a:rPr>
              <a:t>learning goal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quire meta-cognition &amp;  self-regul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071720" y="0"/>
            <a:ext cx="73087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1e5"/>
                </a:solidFill>
                <a:latin typeface="Corbel"/>
              </a:rPr>
              <a:t>Learning or Performing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C:\Documents and Settings\mwl\Local Settings\Temporary Internet Files\Content.IE5\U0JNO8ZL\MP900439517[1].jpg"/>
          <p:cNvPicPr/>
          <p:nvPr/>
        </p:nvPicPr>
        <p:blipFill>
          <a:blip r:embed="rId1"/>
          <a:stretch/>
        </p:blipFill>
        <p:spPr>
          <a:xfrm>
            <a:off x="6286680" y="2928960"/>
            <a:ext cx="2857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357120" y="7858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A 50/50 ratio of attention to learning and to performing is ide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6" descr="C:\Users\Public\_New docos\Anecdote materials\china-internet-cafe.jpg"/>
          <p:cNvPicPr/>
          <p:nvPr/>
        </p:nvPicPr>
        <p:blipFill>
          <a:blip r:embed="rId2"/>
          <a:stretch/>
        </p:blipFill>
        <p:spPr>
          <a:xfrm>
            <a:off x="2357280" y="3214800"/>
            <a:ext cx="50785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3" descr=""/>
          <p:cNvPicPr/>
          <p:nvPr/>
        </p:nvPicPr>
        <p:blipFill>
          <a:blip r:embed="rId1"/>
          <a:stretch/>
        </p:blipFill>
        <p:spPr>
          <a:xfrm>
            <a:off x="396720" y="146160"/>
            <a:ext cx="8386920" cy="1261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571400"/>
            <a:ext cx="4038480" cy="4825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00ff"/>
                </a:solidFill>
                <a:latin typeface="Corbel"/>
              </a:rPr>
              <a:t>‘</a:t>
            </a:r>
            <a:r>
              <a:rPr b="1" lang="en-AU" sz="2800" spc="-1" strike="noStrike">
                <a:solidFill>
                  <a:srgbClr val="cc00ff"/>
                </a:solidFill>
                <a:latin typeface="Corbel"/>
              </a:rPr>
              <a:t>Coverage’ cult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Content-driv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Test-orien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Packaged in adva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Pencil and 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Imitative routi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Credential is the prize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8320" y="150012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00ff"/>
                </a:solidFill>
                <a:latin typeface="Corbel"/>
              </a:rPr>
              <a:t>  </a:t>
            </a:r>
            <a:r>
              <a:rPr b="1" lang="en-AU" sz="2800" spc="-1" strike="noStrike">
                <a:solidFill>
                  <a:srgbClr val="cc00ff"/>
                </a:solidFill>
                <a:latin typeface="Corbel"/>
              </a:rPr>
              <a:t>Learning cult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Personalis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Self-manag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Focus is on the journe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Virtual and ‘real’ have equal statu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Open-end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Creat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Curved Right Arrow 7"/>
          <p:cNvSpPr/>
          <p:nvPr/>
        </p:nvSpPr>
        <p:spPr>
          <a:xfrm>
            <a:off x="2643120" y="2071800"/>
            <a:ext cx="1303560" cy="928440"/>
          </a:xfrm>
          <a:custGeom>
            <a:avLst/>
            <a:gdLst>
              <a:gd name="textAreaLeft" fmla="*/ 174600 w 1303560"/>
              <a:gd name="textAreaRight" fmla="*/ 1128960 w 1303560"/>
              <a:gd name="textAreaTop" fmla="*/ 145080 h 928440"/>
              <a:gd name="textAreaBottom" fmla="*/ 66744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4871"/>
                <a:lnTo>
                  <a:pt x="17752" y="21492"/>
                </a:lnTo>
                <a:lnTo>
                  <a:pt x="21600" y="16200"/>
                </a:lnTo>
                <a:lnTo>
                  <a:pt x="17752" y="10692"/>
                </a:lnTo>
                <a:lnTo>
                  <a:pt x="17752" y="13392"/>
                </a:lnTo>
                <a:arcTo wR="21600" hR="6750" stAng="7205129" swAng="31288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c00ff"/>
          </a:solidFill>
          <a:ln w="478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rved Left Arrow 8"/>
          <p:cNvSpPr/>
          <p:nvPr/>
        </p:nvSpPr>
        <p:spPr>
          <a:xfrm>
            <a:off x="4357800" y="2071800"/>
            <a:ext cx="1214280" cy="92844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5080 h 928440"/>
              <a:gd name="textAreaBottom" fmla="*/ 6674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484141"/>
                <a:lnTo>
                  <a:pt x="4129" y="21476"/>
                </a:lnTo>
                <a:lnTo>
                  <a:pt x="0" y="16200"/>
                </a:lnTo>
                <a:lnTo>
                  <a:pt x="4129" y="10676"/>
                </a:lnTo>
                <a:lnTo>
                  <a:pt x="4129" y="13376"/>
                </a:lnTo>
                <a:arcTo wR="21600" hR="6750" stAng="3484141" swAng="-301815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cc00ff"/>
          </a:solidFill>
          <a:ln w="478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P91"/>
          <p:cNvPicPr/>
          <p:nvPr/>
        </p:nvPicPr>
        <p:blipFill>
          <a:blip r:embed="rId1"/>
          <a:stretch/>
        </p:blipFill>
        <p:spPr>
          <a:xfrm>
            <a:off x="1905120" y="990720"/>
            <a:ext cx="5398920" cy="36576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 ‘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He’ll be ok – he’s just seen the National Curriculum documents...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High cognitive demand environmen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Clarify and share explicit learning intention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Obligatory engagement – no opting out, no ‘hands up’ except to ques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Questions/statements that ‘cause’ think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Practise designing tests, not just doing th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Formative assessment to feed forwar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Students work harder than teach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Broad and deep learning tasks – e-portfolio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Re-thinking creativity and inno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Educational practices – less of, more o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E-shift – plural, power browsing readership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Flattening hierarchies of leadershi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Networking and brokering capaci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Creative living, learning and earn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Learning and Performing goals are diffe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Competing cultures – coverage or learning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High challenge pedagogy – actually doing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296640" cy="1266840"/>
          </a:xfrm>
          <a:prstGeom prst="rect">
            <a:avLst/>
          </a:prstGeom>
          <a:ln w="0">
            <a:noFill/>
          </a:ln>
        </p:spPr>
      </p:pic>
      <p:pic>
        <p:nvPicPr>
          <p:cNvPr id="393" name="Content Placeholder 5" descr="Creative Workforce book cover.jpg"/>
          <p:cNvPicPr/>
          <p:nvPr/>
        </p:nvPicPr>
        <p:blipFill>
          <a:blip r:embed="rId2"/>
          <a:stretch/>
        </p:blipFill>
        <p:spPr>
          <a:xfrm>
            <a:off x="6215040" y="2000160"/>
            <a:ext cx="2590920" cy="40006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"/>
          <p:cNvSpPr/>
          <p:nvPr/>
        </p:nvSpPr>
        <p:spPr>
          <a:xfrm>
            <a:off x="357120" y="1785960"/>
            <a:ext cx="5715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ontact email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17bbfd"/>
                </a:solidFill>
                <a:uFillTx/>
                <a:latin typeface="Arial"/>
                <a:hlinkClick r:id="rId3"/>
              </a:rPr>
              <a:t>e.mcwilliam@qut.edu.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ff0000"/>
                </a:solidFill>
                <a:uFillTx/>
                <a:latin typeface="Arial"/>
              </a:rPr>
              <a:t>peter.g.taylor@live.com.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4" descr="http://chccsgradproject.pbworks.com/f/graduation.jpg"/>
          <p:cNvPicPr/>
          <p:nvPr/>
        </p:nvPicPr>
        <p:blipFill>
          <a:blip r:embed="rId2"/>
          <a:stretch/>
        </p:blipFill>
        <p:spPr>
          <a:xfrm>
            <a:off x="500040" y="1428840"/>
            <a:ext cx="8358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93560" y="249120"/>
            <a:ext cx="8242560" cy="1403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71e5"/>
                </a:solidFill>
                <a:latin typeface="GillSans"/>
              </a:rPr>
              <a:t>Myth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1" lang="en-GB" sz="2800" spc="-1" strike="noStrike">
                <a:solidFill>
                  <a:srgbClr val="ff71e5"/>
                </a:solidFill>
                <a:latin typeface="GillSans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Flash of insight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Comes from immers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Brilliant idea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Fail often but earl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Individualistic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Collaborativ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New knowledge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Admitting ignoranc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Invention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Mostly developm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Originality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Borrow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Look to the future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Look sideways and backwar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All about learning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Unlearning just as vita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Internal R &amp; D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Networked, open innov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Product pipeline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Consumers as innovators (prod-users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4" marL="1254240" indent="-160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254240" indent="-160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Charlie Leadb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3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139240" cy="135252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4"/>
          <p:cNvGrpSpPr/>
          <p:nvPr/>
        </p:nvGrpSpPr>
        <p:grpSpPr>
          <a:xfrm>
            <a:off x="838080" y="1714680"/>
            <a:ext cx="3019680" cy="4469760"/>
            <a:chOff x="838080" y="1714680"/>
            <a:chExt cx="3019680" cy="4469760"/>
          </a:xfrm>
        </p:grpSpPr>
        <p:sp>
          <p:nvSpPr>
            <p:cNvPr id="320" name="Text Box 5"/>
            <p:cNvSpPr/>
            <p:nvPr/>
          </p:nvSpPr>
          <p:spPr>
            <a:xfrm>
              <a:off x="1270080" y="1714680"/>
              <a:ext cx="865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b8f2"/>
                  </a:solidFill>
                  <a:latin typeface="Corbel"/>
                </a:rPr>
                <a:t>L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"/>
            <p:cNvSpPr/>
            <p:nvPr/>
          </p:nvSpPr>
          <p:spPr>
            <a:xfrm>
              <a:off x="992520" y="2416320"/>
              <a:ext cx="229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Rote Memor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1000440" y="4976640"/>
              <a:ext cx="27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Mandated Curriculu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1000440" y="395928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Compli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81800" y="44496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Im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8080" y="341316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Teacher-driven activity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856080" y="2933640"/>
              <a:ext cx="25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Control and comm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1000440" y="5541840"/>
              <a:ext cx="285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Competitive individu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3"/>
          <p:cNvGrpSpPr/>
          <p:nvPr/>
        </p:nvGrpSpPr>
        <p:grpSpPr>
          <a:xfrm>
            <a:off x="4995360" y="1714680"/>
            <a:ext cx="3331080" cy="4197240"/>
            <a:chOff x="4995360" y="1714680"/>
            <a:chExt cx="3331080" cy="4197240"/>
          </a:xfrm>
        </p:grpSpPr>
        <p:sp>
          <p:nvSpPr>
            <p:cNvPr id="329" name="Rectangle 14"/>
            <p:cNvSpPr/>
            <p:nvPr/>
          </p:nvSpPr>
          <p:spPr>
            <a:xfrm>
              <a:off x="5672160" y="1714680"/>
              <a:ext cx="98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b8f2"/>
                  </a:solidFill>
                  <a:latin typeface="Corbel"/>
                </a:rPr>
                <a:t>Mo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5211720" y="2354400"/>
              <a:ext cx="31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Problem-solv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5393160" y="49770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Learning to lea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356800" y="39546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Co-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5378040" y="4451400"/>
              <a:ext cx="141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Risk-tak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5435280" y="3440160"/>
              <a:ext cx="209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Self-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5460120" y="2867040"/>
              <a:ext cx="25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Direction and 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4995360" y="5543640"/>
              <a:ext cx="32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Dynamic team-based 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143920" cy="12988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250920" y="157176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lent singular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0"/>
          <p:cNvSpPr/>
          <p:nvPr/>
        </p:nvSpPr>
        <p:spPr>
          <a:xfrm>
            <a:off x="4543560" y="15717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ading as a team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1"/>
          <p:cNvSpPr/>
          <p:nvPr/>
        </p:nvSpPr>
        <p:spPr>
          <a:xfrm>
            <a:off x="250920" y="2071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ading for enlighte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2"/>
          <p:cNvSpPr/>
          <p:nvPr/>
        </p:nvSpPr>
        <p:spPr>
          <a:xfrm>
            <a:off x="4572000" y="2071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ading for belon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3"/>
          <p:cNvSpPr/>
          <p:nvPr/>
        </p:nvSpPr>
        <p:spPr>
          <a:xfrm>
            <a:off x="257040" y="257184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4"/>
          <p:cNvSpPr/>
          <p:nvPr/>
        </p:nvSpPr>
        <p:spPr>
          <a:xfrm>
            <a:off x="4572000" y="25718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5"/>
          <p:cNvSpPr/>
          <p:nvPr/>
        </p:nvSpPr>
        <p:spPr>
          <a:xfrm>
            <a:off x="250920" y="3071880"/>
            <a:ext cx="19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ge-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6"/>
          <p:cNvSpPr/>
          <p:nvPr/>
        </p:nvSpPr>
        <p:spPr>
          <a:xfrm>
            <a:off x="4572000" y="3143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ey-t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7"/>
          <p:cNvSpPr/>
          <p:nvPr/>
        </p:nvSpPr>
        <p:spPr>
          <a:xfrm>
            <a:off x="285840" y="3571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-depth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4572000" y="36432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wer brow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9"/>
          <p:cNvSpPr/>
          <p:nvPr/>
        </p:nvSpPr>
        <p:spPr>
          <a:xfrm>
            <a:off x="250920" y="40006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ear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0"/>
          <p:cNvSpPr/>
          <p:nvPr/>
        </p:nvSpPr>
        <p:spPr>
          <a:xfrm>
            <a:off x="4572000" y="4071960"/>
            <a:ext cx="26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ked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1"/>
          <p:cNvSpPr/>
          <p:nvPr/>
        </p:nvSpPr>
        <p:spPr>
          <a:xfrm>
            <a:off x="250920" y="4500720"/>
            <a:ext cx="36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ngle focus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2"/>
          <p:cNvSpPr/>
          <p:nvPr/>
        </p:nvSpPr>
        <p:spPr>
          <a:xfrm>
            <a:off x="4572000" y="457200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ruptio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3"/>
          <p:cNvSpPr/>
          <p:nvPr/>
        </p:nvSpPr>
        <p:spPr>
          <a:xfrm>
            <a:off x="250920" y="500076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asis of bookish tranquil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5"/>
          <p:cNvSpPr/>
          <p:nvPr/>
        </p:nvSpPr>
        <p:spPr>
          <a:xfrm>
            <a:off x="4572000" y="500076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pace of digital inter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ight Arrow 25"/>
          <p:cNvSpPr/>
          <p:nvPr/>
        </p:nvSpPr>
        <p:spPr>
          <a:xfrm>
            <a:off x="3564000" y="3141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00ff"/>
          </a:solidFill>
          <a:ln w="478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7"/>
          <p:cNvSpPr/>
          <p:nvPr/>
        </p:nvSpPr>
        <p:spPr>
          <a:xfrm>
            <a:off x="285840" y="55008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rrect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8"/>
          <p:cNvSpPr/>
          <p:nvPr/>
        </p:nvSpPr>
        <p:spPr>
          <a:xfrm>
            <a:off x="4572000" y="54291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ett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701640" y="171360"/>
            <a:ext cx="7783560" cy="10479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856800" y="1785600"/>
            <a:ext cx="8286840" cy="44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2"/>
          <a:srcRect l="478" t="15654" r="13728" b="50448"/>
          <a:stretch/>
        </p:blipFill>
        <p:spPr>
          <a:xfrm>
            <a:off x="0" y="2416320"/>
            <a:ext cx="9144000" cy="44416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1069920" y="1428840"/>
            <a:ext cx="24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and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 Econom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173560" y="142884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4"/>
          <p:cNvGrpSpPr/>
          <p:nvPr/>
        </p:nvGrpSpPr>
        <p:grpSpPr>
          <a:xfrm>
            <a:off x="4572000" y="1500120"/>
            <a:ext cx="4357800" cy="5000760"/>
            <a:chOff x="4572000" y="1500120"/>
            <a:chExt cx="4357800" cy="5000760"/>
          </a:xfrm>
        </p:grpSpPr>
        <p:pic>
          <p:nvPicPr>
            <p:cNvPr id="365" name="Picture 5" descr="sociogram_wiki_paper"/>
            <p:cNvPicPr/>
            <p:nvPr/>
          </p:nvPicPr>
          <p:blipFill>
            <a:blip r:embed="rId2"/>
            <a:stretch/>
          </p:blipFill>
          <p:spPr>
            <a:xfrm>
              <a:off x="4572000" y="1500120"/>
              <a:ext cx="4357800" cy="500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Group 6"/>
            <p:cNvGrpSpPr/>
            <p:nvPr/>
          </p:nvGrpSpPr>
          <p:grpSpPr>
            <a:xfrm>
              <a:off x="4572000" y="2819880"/>
              <a:ext cx="1784520" cy="791640"/>
              <a:chOff x="4572000" y="2819880"/>
              <a:chExt cx="1784520" cy="791640"/>
            </a:xfrm>
          </p:grpSpPr>
          <p:sp>
            <p:nvSpPr>
              <p:cNvPr id="367" name="Text Box 7"/>
              <p:cNvSpPr/>
              <p:nvPr/>
            </p:nvSpPr>
            <p:spPr>
              <a:xfrm>
                <a:off x="4572000" y="2819880"/>
                <a:ext cx="764640" cy="7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>
                <a:off x="5209200" y="3083760"/>
                <a:ext cx="1147320" cy="2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Rectangle 8"/>
          <p:cNvSpPr/>
          <p:nvPr/>
        </p:nvSpPr>
        <p:spPr>
          <a:xfrm>
            <a:off x="785880" y="2143080"/>
            <a:ext cx="32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t just skills and competencies, but skills and competencies embedded in networks of social/cultur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438120" y="158760"/>
            <a:ext cx="8242200" cy="120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6840" y="1499760"/>
            <a:ext cx="4543560" cy="5357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c: ‘know what to do when they don’t know what to do’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ork well in team situations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-us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new knowledge, not just passive consumers of inform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e risks and try new things, mix and match, assemble, edit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Self-critical diagnosticians – not needy of constant affirmation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y 50/50 attention to learning goals and performance goals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6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2" descr="C:\Documents and Settings\mwl\Local Settings\Temporary Internet Files\Content.IE5\JQVMC2MF\MPj04394430000[1].jpg"/>
          <p:cNvPicPr/>
          <p:nvPr/>
        </p:nvPicPr>
        <p:blipFill>
          <a:blip r:embed="rId2"/>
          <a:stretch/>
        </p:blipFill>
        <p:spPr>
          <a:xfrm>
            <a:off x="5000760" y="1428840"/>
            <a:ext cx="41432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600" spc="-1" strike="noStrike">
                <a:solidFill>
                  <a:srgbClr val="ff71e5"/>
                </a:solidFill>
                <a:latin typeface="Corbel"/>
              </a:rPr>
              <a:t>Learning and Performing: The Differenc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carol_dweck"/>
          <p:cNvPicPr/>
          <p:nvPr/>
        </p:nvPicPr>
        <p:blipFill>
          <a:blip r:embed="rId1"/>
          <a:stretch/>
        </p:blipFill>
        <p:spPr>
          <a:xfrm>
            <a:off x="1928880" y="2143080"/>
            <a:ext cx="55623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00:35:25Z</dcterms:created>
  <dc:creator>erica mcwilliam</dc:creator>
  <dc:description/>
  <dc:language>en-US</dc:language>
  <cp:lastModifiedBy>urbano maria</cp:lastModifiedBy>
  <dcterms:modified xsi:type="dcterms:W3CDTF">2011-05-25T23:28:19Z</dcterms:modified>
  <cp:revision>300</cp:revision>
  <dc:subject/>
  <dc:title>Women Learning Power</dc:title>
</cp:coreProperties>
</file>